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1.png" ContentType="image/png"/>
  <Override PartName="/ppt/media/image24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0.jpeg" ContentType="image/jpeg"/>
  <Override PartName="/ppt/media/image7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7B71-E02B-4730-B20B-072D92C3A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B0A4-E416-43E8-8678-04837E54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174A-25E5-4F17-93A1-F10530D32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E7D0-7DCA-4A22-8C50-F40B70C42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DB72-16AC-4DBE-BD89-793073401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01BCF-E6BE-416E-9714-D81441FB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5D58-853D-4598-9EF5-EA422BA8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670CD-B821-4D51-8BDB-3B4D63A9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3F96-36A9-4C50-B683-3B865FDE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976E-77F1-4E6B-BA3E-FB111E44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B048-3D08-4B8E-A351-C518AE37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E9CD-9CAB-43D3-86B9-F8C11022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2C01-203F-47FF-853E-5BFA92BC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902B4-43AA-43BC-BDA9-3600E643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3258-9FCA-4A80-B605-58C24FBC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07328-CFC5-4F0F-B3B4-242FDB41E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BC16-15F3-4784-9701-4B9A03C71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4686-38FE-4494-B615-0BD13A36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B302-2C01-4925-8282-8C9C665C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337D-2E58-4AB8-88A7-AA31B333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52F1-59D8-4745-8D4C-918D1C9B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6D53-B3D3-499E-A470-6A145A64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476C-F9FC-465C-A469-B890895E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F986-2448-40AB-BEDB-8481DA41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BC16-283C-4C4B-AC94-26E551A122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A513-23E2-4935-9E1E-8980757AF1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spu.unibel.by/teacher/Maliugin/Ancient1/Ludi/aegypt.htm" TargetMode="External"/><Relationship Id="rId2" Type="http://schemas.openxmlformats.org/officeDocument/2006/relationships/hyperlink" Target="http://www.bspu.unibel.by/teacher/Maliugin/Ancient1/Ludi/Pliopithecus.htm" TargetMode="External"/><Relationship Id="rId3" Type="http://schemas.openxmlformats.org/officeDocument/2006/relationships/hyperlink" Target="http://www.bspu.unibel.by/teacher/Maliugin/Ancient1/Ludi/proconsul.htm" TargetMode="External"/><Relationship Id="rId4" Type="http://schemas.openxmlformats.org/officeDocument/2006/relationships/hyperlink" Target="http://www.bspu.unibel.by/teacher/Maliugin/Ancient1/Ludi/afropithecus.htm" TargetMode="External"/><Relationship Id="rId5" Type="http://schemas.openxmlformats.org/officeDocument/2006/relationships/hyperlink" Target="http://www.bspu.unibel.by/teacher/Maliugin/Ancient1/Ludi/siva.htm" TargetMode="External"/><Relationship Id="rId6" Type="http://schemas.openxmlformats.org/officeDocument/2006/relationships/hyperlink" Target="http://www.bspu.unibel.by/teacher/Maliugin/Ancient1/Ludi/drio.htm" TargetMode="External"/><Relationship Id="rId7" Type="http://schemas.openxmlformats.org/officeDocument/2006/relationships/hyperlink" Target="http://www.bspu.unibel.by/teacher/Maliugin/Ancient1/Ludi/rama.htm" TargetMode="External"/><Relationship Id="rId8" Type="http://schemas.openxmlformats.org/officeDocument/2006/relationships/hyperlink" Target="http://www.bspu.unibel.by/teacher/Maliugin/Ancient1/Ludi/Pierolapithecus.htm" TargetMode="External"/><Relationship Id="rId9" Type="http://schemas.openxmlformats.org/officeDocument/2006/relationships/hyperlink" Target="http://www.bspu.unibel.by/teacher/Maliugin/Ancient1/Ludi/sahelantrobus.htm" TargetMode="External"/><Relationship Id="rId10" Type="http://schemas.openxmlformats.org/officeDocument/2006/relationships/hyperlink" Target="http://www.bspu.unibel.by/teacher/Maliugin/Ancient1/Ludi/orrorin.htm" TargetMode="External"/><Relationship Id="rId11" Type="http://schemas.openxmlformats.org/officeDocument/2006/relationships/hyperlink" Target="http://www.bspu.unibel.by/teacher/Maliugin/Ancient1/Ludi/kadobba.htm" TargetMode="External"/><Relationship Id="rId12" Type="http://schemas.openxmlformats.org/officeDocument/2006/relationships/hyperlink" Target="http://www.bspu.unibel.by/teacher/Maliugin/Ancient1/Ludi/ramidus.htm" TargetMode="External"/><Relationship Id="rId13" Type="http://schemas.openxmlformats.org/officeDocument/2006/relationships/hyperlink" Target="http://www.bspu.unibel.by/teacher/Maliugin/Ancient1/Ludi/anamensis.htm" TargetMode="External"/><Relationship Id="rId14" Type="http://schemas.openxmlformats.org/officeDocument/2006/relationships/hyperlink" Target="http://www.bspu.unibel.by/teacher/Maliugin/Ancient1/Ludi/afarensis.htm" TargetMode="External"/><Relationship Id="rId15" Type="http://schemas.openxmlformats.org/officeDocument/2006/relationships/hyperlink" Target="http://www.bspu.unibel.by/teacher/Maliugin/Ancient1/Ludi/Kenyanthropus.htm" TargetMode="External"/><Relationship Id="rId16" Type="http://schemas.openxmlformats.org/officeDocument/2006/relationships/hyperlink" Target="http://www.bspu.unibel.by/teacher/Maliugin/Ancient1/Ludi/bahrel.htm" TargetMode="External"/><Relationship Id="rId17" Type="http://schemas.openxmlformats.org/officeDocument/2006/relationships/hyperlink" Target="http://www.bspu.unibel.by/teacher/Maliugin/Ancient1/Ludi/africanus.htm" TargetMode="External"/><Relationship Id="rId18" Type="http://schemas.openxmlformats.org/officeDocument/2006/relationships/hyperlink" Target="http://www.bspu.unibel.by/teacher/Maliugin/Ancient1/Ludi/garhi.htm" TargetMode="External"/><Relationship Id="rId19" Type="http://schemas.openxmlformats.org/officeDocument/2006/relationships/hyperlink" Target="http://www.bspu.unibel.by/teacher/Maliugin/Ancient1/Ludi/aethiopicus.htm" TargetMode="External"/><Relationship Id="rId20" Type="http://schemas.openxmlformats.org/officeDocument/2006/relationships/hyperlink" Target="http://www.bspu.unibel.by/teacher/Maliugin/Ancient1/Ludi/boisei.htm" TargetMode="External"/><Relationship Id="rId21" Type="http://schemas.openxmlformats.org/officeDocument/2006/relationships/hyperlink" Target="http://www.bspu.unibel.by/teacher/Maliugin/Ancient1/Ludi/robustus.htm" TargetMode="External"/><Relationship Id="rId22" Type="http://schemas.openxmlformats.org/officeDocument/2006/relationships/hyperlink" Target="http://www.bspu.unibel.by/teacher/Maliugin/Ancient1/Ludi/habilis.htm" TargetMode="External"/><Relationship Id="rId23" Type="http://schemas.openxmlformats.org/officeDocument/2006/relationships/hyperlink" Target="http://www.bspu.unibel.by/teacher/Maliugin/Ancient1/Ludi/rudolfensis.htm" TargetMode="External"/><Relationship Id="rId24" Type="http://schemas.openxmlformats.org/officeDocument/2006/relationships/hyperlink" Target="http://www.bspu.unibel.by/teacher/Maliugin/Ancient1/Ludi/Georgicus.htm" TargetMode="External"/><Relationship Id="rId25" Type="http://schemas.openxmlformats.org/officeDocument/2006/relationships/hyperlink" Target="http://www.bspu.unibel.by/teacher/Maliugin/Ancient1/Ludi/Ergaster.htm" TargetMode="External"/><Relationship Id="rId26" Type="http://schemas.openxmlformats.org/officeDocument/2006/relationships/hyperlink" Target="http://www.bspu.unibel.by/teacher/Maliugin/Ancient1/Ludi/Erectus.htm" TargetMode="External"/><Relationship Id="rId27" Type="http://schemas.openxmlformats.org/officeDocument/2006/relationships/hyperlink" Target="http://www.bspu.unibel.by/teacher/Maliugin/Ancient1/Ludi/Antecessor.htm" TargetMode="External"/><Relationship Id="rId28" Type="http://schemas.openxmlformats.org/officeDocument/2006/relationships/hyperlink" Target="http://www.bspu.unibel.by/teacher/Maliugin/Ancient1/Ludi/telan.htm" TargetMode="External"/><Relationship Id="rId29" Type="http://schemas.openxmlformats.org/officeDocument/2006/relationships/hyperlink" Target="http://www.bspu.unibel.by/teacher/Maliugin/Ancient1/Ludi/Heidelbergensis.htm" TargetMode="External"/><Relationship Id="rId30" Type="http://schemas.openxmlformats.org/officeDocument/2006/relationships/hyperlink" Target="http://www.bspu.unibel.by/teacher/Maliugin/Ancient1/Ludi/sinan.htm" TargetMode="External"/><Relationship Id="rId31" Type="http://schemas.openxmlformats.org/officeDocument/2006/relationships/hyperlink" Target="http://www.bspu.unibel.by/teacher/Maliugin/Ancient1/Ludi/Pithecanthropus.htm" TargetMode="External"/><Relationship Id="rId32" Type="http://schemas.openxmlformats.org/officeDocument/2006/relationships/hyperlink" Target="http://www.bspu.unibel.by/teacher/Maliugin/Ancient1/Ludi/verteshel.htm" TargetMode="External"/><Relationship Id="rId33" Type="http://schemas.openxmlformats.org/officeDocument/2006/relationships/hyperlink" Target="http://www.bspu.unibel.by/teacher/Maliugin/Ancient1/Ludi/verteshel.htm" TargetMode="External"/><Relationship Id="rId34" Type="http://schemas.openxmlformats.org/officeDocument/2006/relationships/hyperlink" Target="http://www.bspu.unibel.by/teacher/Maliugin/Ancient1/Ludi/atlanthropus.htm" TargetMode="External"/><Relationship Id="rId35" Type="http://schemas.openxmlformats.org/officeDocument/2006/relationships/hyperlink" Target="http://www.bspu.unibel.by/teacher/Maliugin/Ancient1/Ludi/petralon.htm" TargetMode="External"/><Relationship Id="rId36" Type="http://schemas.openxmlformats.org/officeDocument/2006/relationships/hyperlink" Target="http://www.bspu.unibel.by/teacher/Maliugin/Ancient1/Ludi/petralon.htm" TargetMode="External"/><Relationship Id="rId37" Type="http://schemas.openxmlformats.org/officeDocument/2006/relationships/hyperlink" Target="http://www.bspu.unibel.by/teacher/Maliugin/Ancient1/Ludi/floresensis.htm" TargetMode="External"/><Relationship Id="rId38" Type="http://schemas.openxmlformats.org/officeDocument/2006/relationships/hyperlink" Target="http://www.bspu.unibel.by/teacher/Maliugin/Ancient1/Ludi/floresensis.htm" TargetMode="External"/><Relationship Id="rId39" Type="http://schemas.openxmlformats.org/officeDocument/2006/relationships/hyperlink" Target="http://www.bspu.unibel.by/teacher/Maliugin/Ancient1/Ludi/floresensis.htm" TargetMode="External"/><Relationship Id="rId40" Type="http://schemas.openxmlformats.org/officeDocument/2006/relationships/hyperlink" Target="http://www.bspu.unibel.by/teacher/Maliugin/Ancient1/Ludi/neandertal.htm" TargetMode="External"/><Relationship Id="rId41" Type="http://schemas.openxmlformats.org/officeDocument/2006/relationships/hyperlink" Target="http://www.bspu.unibel.by/teacher/Maliugin/Ancient1/Ludi/sapiens.htm" TargetMode="External"/><Relationship Id="rId42" Type="http://schemas.openxmlformats.org/officeDocument/2006/relationships/hyperlink" Target="http://www.bspu.unibel.by/teacher/Maliugin/Ancient1/Ludi/sapiens.htm" TargetMode="External"/><Relationship Id="rId43" Type="http://schemas.openxmlformats.org/officeDocument/2006/relationships/hyperlink" Target="http://www.bspu.unibel.by/teacher/Maliugin/Ancient1/Ludi/sapiens.htm" TargetMode="External"/><Relationship Id="rId44" Type="http://schemas.openxmlformats.org/officeDocument/2006/relationships/hyperlink" Target="http://www.bspu.unibel.by/teacher/Maliugin/Ancient1/Ludi/sapiens.htm" TargetMode="External"/><Relationship Id="rId45" Type="http://schemas.openxmlformats.org/officeDocument/2006/relationships/hyperlink" Target="http://www.bspu.unibel.by/teacher/Maliugin/Ancient1/Ludi/sapiens.htm" TargetMode="External"/><Relationship Id="rId4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74.125.79.101/translate_c?hl=ru&amp;sl=en&amp;u=http://dic.academic.ru/dic.nsf/cide/63080/extinct&amp;prev=/search%3Fq%3DAegyptopithecus%26hl%3Dru%26lr%3Dlang_ru%26newwindow%3D1%26client%3Dfirefox-a%26channel%3Ds%26rls%3Dorg.mozilla:ru:official%26sa%3DG&amp;usg=ALkJrhjkJC8J7nnwUwD03QCjN7V96t2jfA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920" y="189000"/>
            <a:ext cx="6851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Эволюция челове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68360" y="1341360"/>
            <a:ext cx="4446720" cy="53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604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Ардипитек кадабб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4535280" cy="43545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003640" y="1700280"/>
            <a:ext cx="396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rdipithecus kadabb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двуногое хожде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обитал в лес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фрик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фиоп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66358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рдипитек рамиду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356000" y="1197000"/>
            <a:ext cx="47880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диету, весьма отлична от гоминидно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по строению черепа близок к шимпанз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прямохожде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кости руки показывают смесь как обезьяньих, так и человеческих призна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точная Африк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фиоп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460836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5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5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66355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рдипитек рамиду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19280" y="836640"/>
            <a:ext cx="597852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385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втралопитек анаменси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493236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ustralopithecus anamen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0" lang="ru-RU" sz="2000" spc="-1" strike="noStrike">
                <a:solidFill>
                  <a:srgbClr val="99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был двуноги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большие, обезьяноподобные клыки сочетаются с толстой эмалью зуб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отмечено наличие диастемы (промежутка между зубами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череп еще очень ма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удлиненное лиц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пальцы длинные и изогнуты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фри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ил в сухих лесах, использовал предметы естественного происхождения в качестве оруди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219640" y="1844640"/>
            <a:ext cx="37292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5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0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4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50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600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65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3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Автралопитек афарский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2382840" cy="5905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400560" y="928800"/>
            <a:ext cx="574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ustralopithecus afarens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вытянутое лицо;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бразное небо с парралельными друг другу рядами коренных зубов;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небольшой объем мозга, в среднем составляющий 430 см3;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небольшой сагиттальный гребен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ямохождени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ст - 105-150 см, вес - 30-45 кг, сильно выраженный половой диморфиз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точная Афр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троение зубов предполагает разнообразную диету без специализации на каком-то одном виде пищевых ресурс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8880" y="2565360"/>
            <a:ext cx="3573360" cy="4105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4932360" cy="32875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26920" y="0"/>
            <a:ext cx="73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Автралопитек афарск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32508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Австралопитек бахрелджазал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356000" y="1341360"/>
            <a:ext cx="43452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stralopithecus bahrelghaza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 строении челюсти и зубов имеется весьма большое сходство с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ustralopithecus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farensi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наличие предкоренных зубов 12 трех корней, в отличие от 1-2 корней у афаренси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фри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4000" y="4076640"/>
            <a:ext cx="3887640" cy="2403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29671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500"/>
                            </p:stCondLst>
                            <p:childTnLst>
                              <p:par>
                                <p:cTn id="4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5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втралопитек африкански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51280" y="1052640"/>
            <a:ext cx="529272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более округлый череп по сравнению с предыдущим видом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отсутствие сагиттального гребня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клыки меньшего размера, чем у афарского австралопитека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отсутствие диастемы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лицо не так выдается вперед, как у афарского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мозг по объему схож с мозгом гориллы, средний объем мозга колеблется в пределах 440-480 см3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приспособлен к прямохождению и брахиаторств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рост - 115-140 см, вес - 30-40 кг, половой диморфиз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Южная Африка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У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треблял как растительную, так и животную пищу, легко приспосабливаясь к любым изменениям кормовых ресурсов. Не умели охотиться, занимались собирательством и падальничеством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50920" y="3978360"/>
            <a:ext cx="3816360" cy="25448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50920" y="907920"/>
            <a:ext cx="381636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300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3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45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4485960" cy="5616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076720" y="1844640"/>
            <a:ext cx="3888000" cy="35607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втралопитек африкански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2835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встралопитек гахр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4033800" cy="38228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003640" y="1289160"/>
            <a:ext cx="414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небольшой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зга - 450 см3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вытянутое лицо, строение зубов и наличие диастем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крупные коренные и предкоренные зуб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имеется сагиттальный гребен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Где были найдены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останки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фиоп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Этапы эволюции челове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80360" cy="533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79640" y="0"/>
            <a:ext cx="4619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инджантроп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514836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Australopithecus bois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(зинджантроп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череп приспособлен для пережевывания твердой пищи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сагиттальный гребень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крупные челюсти, небольшие клыки и резцы, крупные предкоренные и коренные зуб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толстая зубная эмал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рост 1,2 - 1,4 м, вес - 30-50 кг, значительный половой диморфизм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объем головного мозга - 410-530 см3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мощное строение скелет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относительно длинные ру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сточная Афри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Обитали в сухих травянистых саваннах. Питались твердой растительной пищей. Практиковали собирательство. Возможно, использовали каменные орудия труда, грубо обработанные, без определенной форм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32511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5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25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30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35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4500"/>
                            </p:stCondLst>
                            <p:childTnLst>
                              <p:par>
                                <p:cTn id="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500"/>
                            </p:stCondLst>
                            <p:childTnLst>
                              <p:par>
                                <p:cTn id="5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6000"/>
                            </p:stCondLst>
                            <p:childTnLst>
                              <p:par>
                                <p:cTn id="5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6500"/>
                            </p:stCondLst>
                            <p:childTnLst>
                              <p:par>
                                <p:cTn id="5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1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7000"/>
                            </p:stCondLst>
                            <p:childTnLst>
                              <p:par>
                                <p:cTn id="5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1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75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7921440" cy="5472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340000" y="0"/>
            <a:ext cx="4619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инджантро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987640" y="0"/>
            <a:ext cx="3394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обусту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3876480" cy="40338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319640" y="836640"/>
            <a:ext cx="46450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ustralopithecus robus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мощное развитие жевательной мускулистой систем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огромные челюсти, большие предкоренные и коренные зубы с толстой эмаль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имел круглое лиц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зга 520 см. куб.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рост 110 – 130 см, вес 30-40 к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умеренный половой диморфиз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Южная Афри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употребление орехов и зер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зможно, умел изготавливать простые костяные орудия, c помощью которых извлекал термит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4926240" cy="5545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042920" y="907920"/>
            <a:ext cx="7272360" cy="5569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987640" y="0"/>
            <a:ext cx="3394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обусту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08000" y="0"/>
            <a:ext cx="57708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Человек умелы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4825800" cy="44146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219640" y="981000"/>
            <a:ext cx="3924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V мозга  около 670 см3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круглая голова, более плоское лицо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увеличение поля Брока в головном мозге, которое отвечает у людей за реч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питались более мягкой пищей, чем их предшественник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длинные руки и короткие ног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Рост – 120-130 см. Вес – 20-40 кг.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двуногая локомоц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точная и Южная Афр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зготавливали примитивные орудия труда, занимались собирательств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00"/>
                            </p:stCondLst>
                            <p:childTnLst>
                              <p:par>
                                <p:cTn id="6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95280" y="188640"/>
            <a:ext cx="447516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итекантроп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927240" cy="2617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68360" y="4365720"/>
            <a:ext cx="3456000" cy="22557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624560" y="1360440"/>
            <a:ext cx="4340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0" lang="ru-RU" sz="1800" spc="-1" strike="noStrike">
                <a:solidFill>
                  <a:srgbClr val="99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зга - 900 см3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рост – 1.5 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выпрямленное положение на полусогнутых ногах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архаическим строением черепа (толстые стенки, низкая лобная кость, выступающие надглазничные валики, скошенный подбородок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зия, остров Я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500"/>
                            </p:stCondLst>
                            <p:childTnLst>
                              <p:par>
                                <p:cTn id="6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556000" y="1268280"/>
            <a:ext cx="3732120" cy="4969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195640" y="1197000"/>
            <a:ext cx="4576680" cy="5040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1187280" y="1052640"/>
            <a:ext cx="6624720" cy="55911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195640" y="189000"/>
            <a:ext cx="447516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итекантро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132000" y="0"/>
            <a:ext cx="33940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Хобби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3961080" cy="37764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767120" y="1360440"/>
            <a:ext cx="43768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рост взрослых особей - около 1 метр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бъем головного мозга - 380 см3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передвигались на двух ногах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глубоко посаженные глаза, плоский нос и выступающая вперед челюсть с крупными зуб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-в Флорес (Индонезия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ладели огнем и создавали довольно совершенные каменные орудия труда. Возможно, охотились на крупных животны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708360" y="1844640"/>
            <a:ext cx="5113440" cy="38354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2938320" cy="5877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132000" y="0"/>
            <a:ext cx="33940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Хоббит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4133880" cy="53992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340000" y="0"/>
            <a:ext cx="512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еандертале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16360" y="1052640"/>
            <a:ext cx="4087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объем мозга - 1200 - 1750 см3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рост 150 - 170 с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более короткие конечности тела по сравнению с современным человек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коренастое, крепко сбитое тело с массивными мышцами, малая площадь поверхности те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вропа, Ближний Восток, Кавказ, Крым, Средняя Азия, Узбекист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мели добывать огонь. Питались почти исключительно мясом, Появились первые мистические/религиозные вер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280" y="188640"/>
            <a:ext cx="8450280" cy="1029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звание Существа        Время существования (лет до н.э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 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Aegyptopithecu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4 – 32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Parapithecus, propliopithecus &amp; pliopithecu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4 - 1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Proconsul africanu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2 - 2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Afropithec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7 - 1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Sivapithec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 - 13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6"/>
              </a:rPr>
              <a:t>Dryopithec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 - 9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7"/>
              </a:rPr>
              <a:t>Ramapithecu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4 - 1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8"/>
              </a:rPr>
              <a:t>Pierolapithecus  catalaunic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9"/>
              </a:rPr>
              <a:t>Sahelantropus tchadensi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 – 6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0"/>
              </a:rPr>
              <a:t>Orrorin tugenensi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  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1"/>
              </a:rPr>
              <a:t>Ardipithecus kadabba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8 – 5.2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2"/>
              </a:rPr>
              <a:t>Ardipithecus ramid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,5 – 4.4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3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3"/>
              </a:rPr>
              <a:t>Australopithecus anamensi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2 – 3.9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4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4"/>
              </a:rPr>
              <a:t>Australopithecus afarensi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 – 3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5"/>
              </a:rPr>
              <a:t>Kenyanthropus platyor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5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6"/>
              </a:rPr>
              <a:t>Australopithecus bahrelghazali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5 – 3.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7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7"/>
              </a:rPr>
              <a:t>Australopithecus african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 – 2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8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8"/>
              </a:rPr>
              <a:t>Australopithecus gahri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5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9"/>
              </a:rPr>
              <a:t>Australopithecus aethiopic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7 – 2.5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0"/>
              </a:rPr>
              <a:t>Australopithecus boisei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5 – 1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1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1"/>
              </a:rPr>
              <a:t>Australopithecus robust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0 – 1.5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2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2"/>
              </a:rPr>
              <a:t>Homo habili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4 – 1.3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3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3"/>
              </a:rPr>
              <a:t>Homo rudolfensi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,4 – 1,6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4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4"/>
              </a:rPr>
              <a:t>Homo georgicu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1.8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5"/>
              </a:rPr>
              <a:t>Homo ergast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1.8 - 1.5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6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6"/>
              </a:rPr>
              <a:t>Homo erect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6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– 5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7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7"/>
              </a:rPr>
              <a:t>Homo antecesso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8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8. 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28"/>
              </a:rPr>
              <a:t>Телантроп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00 – 7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9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9"/>
              </a:rPr>
              <a:t>Homo heidelbergensi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– 2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30"/>
              </a:rPr>
              <a:t>Sinanthropo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00 – 5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1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31"/>
              </a:rPr>
              <a:t>Pithecanthrop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2. 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2"/>
              </a:rPr>
              <a:t>Вертешселлешский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3"/>
              </a:rPr>
              <a:t> человек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400 - 300 тыс. 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3. 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4"/>
              </a:rPr>
              <a:t>Атлантроп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360 тыс. ле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4. 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5"/>
              </a:rPr>
              <a:t>Петралонский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6"/>
              </a:rPr>
              <a:t> человек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250 -150 тыс. 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5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37"/>
              </a:rPr>
              <a:t>Homo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8"/>
              </a:rPr>
              <a:t>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39"/>
              </a:rPr>
              <a:t>floresensi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0 – 11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6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40"/>
              </a:rPr>
              <a:t>Homo sapiens neanderthalensi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30 – 27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7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41"/>
              </a:rPr>
              <a:t>Homo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42"/>
              </a:rPr>
              <a:t>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43"/>
              </a:rPr>
              <a:t>sapiens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44"/>
              </a:rPr>
              <a:t>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45"/>
              </a:rPr>
              <a:t>sapien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30 тыс. лет и до наших дне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5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5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5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5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5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50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50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50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50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5000" fill="hold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5000" fill="hold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5000" fill="hold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000" fill="hold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5000" fill="hold"/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000" fill="hold"/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5000" fill="hold"/>
                                        <p:tgtEl>
                                          <p:spTgt spid="1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5000" fill="hold"/>
                                        <p:tgtEl>
                                          <p:spTgt spid="1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5000" fill="hold"/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5000" fill="hold"/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5000" fill="hold"/>
                                        <p:tgtEl>
                                          <p:spTgt spid="1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000" fill="hold"/>
                                        <p:tgtEl>
                                          <p:spTgt spid="1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5000" fill="hold"/>
                                        <p:tgtEl>
                                          <p:spTgt spid="10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0" fill="hold"/>
                                        <p:tgtEl>
                                          <p:spTgt spid="10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5000" fill="hold"/>
                                        <p:tgtEl>
                                          <p:spTgt spid="101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000" fill="hold"/>
                                        <p:tgtEl>
                                          <p:spTgt spid="101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5000" fill="hold"/>
                                        <p:tgtEl>
                                          <p:spTgt spid="101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000" fill="hold"/>
                                        <p:tgtEl>
                                          <p:spTgt spid="101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5000" fill="hold"/>
                                        <p:tgtEl>
                                          <p:spTgt spid="101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000" fill="hold"/>
                                        <p:tgtEl>
                                          <p:spTgt spid="101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5000" fill="hold"/>
                                        <p:tgtEl>
                                          <p:spTgt spid="101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000" fill="hold"/>
                                        <p:tgtEl>
                                          <p:spTgt spid="101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5000" fill="hold"/>
                                        <p:tgtEl>
                                          <p:spTgt spid="101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5000" fill="hold"/>
                                        <p:tgtEl>
                                          <p:spTgt spid="101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5000" fill="hold"/>
                                        <p:tgtEl>
                                          <p:spTgt spid="101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5000" fill="hold"/>
                                        <p:tgtEl>
                                          <p:spTgt spid="101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5000" fill="hold"/>
                                        <p:tgtEl>
                                          <p:spTgt spid="101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5000" fill="hold"/>
                                        <p:tgtEl>
                                          <p:spTgt spid="101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484360" y="836640"/>
            <a:ext cx="4627800" cy="5805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908000" y="765000"/>
            <a:ext cx="6048720" cy="58388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340000" y="0"/>
            <a:ext cx="512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еандертале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469116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романьонец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4041720" cy="4968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643280" y="1484280"/>
            <a:ext cx="4197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елосложение кроманьонцев было менее массивным, чем у неандертальце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рост до 180-190 с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вытянутые «тропические»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порции тел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череп высокий, прямой и более гладкий лоб, выступающий подбородок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фрика,  Европа, Россия,  Украи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6707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овременные люд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55800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рост - 160-185 см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длинные, тонкие конечности, большая поверхность те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средний объем мозга 1400 см3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уплощенный, высокий, почти вертикальный лоб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иболее ранние находки - Африка, примерно 40-35 тысяч лет т.н. начал расселяться по всей планете, вытесняя более примитивных люд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26640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700360" y="1341360"/>
            <a:ext cx="4784760" cy="52308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6707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овременные люд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0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42472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шающим  шагом на пути от обезьяны к человеку явилось прямохождение. Одна из групп обезьян, живших 10 – 12 млн. лет назад, дала начало ветви, ведущей к челове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662148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56000" y="-360"/>
            <a:ext cx="5410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Египтопит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гиптопитек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gyptopithecu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вымерш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риматы, жили около 38 миллионов лет назад. Останки были найдены в Египт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859280" y="2852640"/>
            <a:ext cx="3995640" cy="3762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755640" y="2924280"/>
            <a:ext cx="31748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84360" y="-360"/>
            <a:ext cx="382752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арапит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8820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рапите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вид ископаемой человекообразной обезьяны, обнаруженный на территории Файюмского оазиса в 1911 году немецким ученым О.Шлоссером. Считается предшественником проплиопите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932360" y="2492280"/>
            <a:ext cx="39592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уществует предположение, что парапитек - начальная стадия в эволюции человекообразных обезьян и человека. Некоторые  антропологи напрочь отрицают саму возможность отнесения парапитека к примата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9640" y="2486160"/>
            <a:ext cx="431964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63640" y="189000"/>
            <a:ext cx="48355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плиопит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211640" y="1267920"/>
            <a:ext cx="46339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плиопите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вид ископаемых человекообразных обезьян. Останки нижней челюсти были обнаружены в Файюмском оазисе (Египет) в слоях нижнего олигоцена вместе с останками парапитека. По строению зубов проплиопитек близок парапитеку и, возможно, является предком плиопите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362736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84000" y="-360"/>
            <a:ext cx="37544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лиопит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4968720" cy="4589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435640" y="1413000"/>
            <a:ext cx="3476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лиопите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род вымерших приматов, существовавший в олигоцене и миоцене.  Впервые был обнаружен в 1837 году Э.Ларте на территории Франции. Известен по находкам остатков нижних и верхних челюстей на территории Европы, Азии и Африки. Считается предком современных гиббонов, отличаясь от них рядом примитивных призна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700000" y="0"/>
            <a:ext cx="3754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риопит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4574880" cy="4896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932360" y="1647720"/>
            <a:ext cx="3887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длину достигали 60 с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брахиатор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масса тела - 20-35 к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падная Европа, Южная Азия, Восточная Афр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роятнее всего, обитали на деревьях и питались лесными ягодами и фрукт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6:45:38Z</dcterms:created>
  <dc:creator>Elena</dc:creator>
  <dc:description/>
  <dc:language>en-US</dc:language>
  <cp:lastModifiedBy>Elena</cp:lastModifiedBy>
  <dcterms:modified xsi:type="dcterms:W3CDTF">2009-01-19T20:15:03Z</dcterms:modified>
  <cp:revision>19</cp:revision>
  <dc:subject/>
  <dc:title>Эволюция челове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12000000000001023620</vt:lpwstr>
  </property>
</Properties>
</file>